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B10-938E-438A-9BA9-FEF93538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74C-C4B4-414F-93D2-C15891F3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6E7-D45B-4FFF-A3D7-6DE6AE70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F77-375C-4613-A18F-3D75F8DD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DB7-3B2E-4209-82EB-83CA0072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26A-399B-49D7-BABF-D761BF34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179-183A-4F18-94AA-9EA74395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9D3-748D-4218-9AF4-BE1EA196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D9B-AAA1-4C70-BEF1-6477F7A4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95E-00FE-470E-B2F8-F21E9E6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969-E559-4B2C-A3B6-D69B9398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555-02DE-4880-A8A4-92EC7FE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79AA-1431-4794-BB3A-B15CB5887A6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3"/>
          <p:cNvSpPr/>
          <p:nvPr/>
        </p:nvSpPr>
        <p:spPr>
          <a:xfrm>
            <a:off x="250920" y="4046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ffc000"/>
                </a:solidFill>
                <a:latin typeface="Brush Script MT"/>
                <a:ea typeface="바탕"/>
              </a:rPr>
              <a:t>Ein Freund ist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C:\Users\romag_000\Desktop\amicizia\unnamed (4).jpg"/>
          <p:cNvPicPr/>
          <p:nvPr/>
        </p:nvPicPr>
        <p:blipFill>
          <a:blip r:embed="rId1"/>
          <a:stretch/>
        </p:blipFill>
        <p:spPr>
          <a:xfrm>
            <a:off x="31680" y="1004760"/>
            <a:ext cx="2811600" cy="4872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48360" y="1004760"/>
            <a:ext cx="3095640" cy="487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6" name="Immagine 4" descr=""/>
          <p:cNvPicPr/>
          <p:nvPr/>
        </p:nvPicPr>
        <p:blipFill>
          <a:blip r:embed="rId3"/>
          <a:stretch/>
        </p:blipFill>
        <p:spPr>
          <a:xfrm>
            <a:off x="2989440" y="1004760"/>
            <a:ext cx="2879640" cy="4872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:\Users\romag_000\Desktop\amicizia\unnamed (6).jpg"/>
          <p:cNvPicPr/>
          <p:nvPr/>
        </p:nvPicPr>
        <p:blipFill>
          <a:blip r:embed="rId1"/>
          <a:stretch/>
        </p:blipFill>
        <p:spPr>
          <a:xfrm>
            <a:off x="179280" y="677880"/>
            <a:ext cx="4356360" cy="5807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4514760" y="620640"/>
            <a:ext cx="4521240" cy="597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200160" y="4005360"/>
            <a:ext cx="87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c000"/>
                </a:solidFill>
                <a:latin typeface="Calibri"/>
              </a:rPr>
              <a:t>Ein Freund im Unglüc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c000"/>
                </a:solidFill>
                <a:latin typeface="Calibri"/>
              </a:rPr>
              <a:t>ist mehr Wert als Hundert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c000"/>
                </a:solidFill>
                <a:latin typeface="Calibri"/>
              </a:rPr>
              <a:t>im Glück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sellaDiTesto 3"/>
          <p:cNvSpPr/>
          <p:nvPr/>
        </p:nvSpPr>
        <p:spPr>
          <a:xfrm>
            <a:off x="4572000" y="414972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ff"/>
                </a:solidFill>
                <a:latin typeface="Arial"/>
                <a:ea typeface="Arial"/>
              </a:rPr>
              <a:t>Ein Freund akzeptiert dich auch wenn du Fehler machts. Denn auf Akzeptanz basier wahre Freundschaf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4"/>
          <p:cNvSpPr/>
          <p:nvPr/>
        </p:nvSpPr>
        <p:spPr>
          <a:xfrm>
            <a:off x="3817800" y="189000"/>
            <a:ext cx="51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ff"/>
                </a:solidFill>
                <a:latin typeface="Arial"/>
                <a:ea typeface="Arial"/>
              </a:rPr>
              <a:t>Einem Freund kann ich immer die Wahrheit sagen. Vor einem Freund dürfen meine Gedanken laut s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3"/>
          <p:cNvSpPr/>
          <p:nvPr/>
        </p:nvSpPr>
        <p:spPr>
          <a:xfrm>
            <a:off x="0" y="33796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2f2f2"/>
                </a:solidFill>
                <a:latin typeface="Bookman Old Style"/>
                <a:ea typeface="BatangChe"/>
              </a:rPr>
              <a:t>Gute Freunde, die sind selt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2f2f2"/>
                </a:solidFill>
                <a:latin typeface="Bookman Old Style"/>
                <a:ea typeface="BatangChe"/>
              </a:rPr>
              <a:t>Die dich lieben und dich halt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2f2f2"/>
                </a:solidFill>
                <a:latin typeface="Bookman Old Style"/>
                <a:ea typeface="BatangChe"/>
              </a:rPr>
              <a:t>die mit dir lachen  und mit dir streite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ec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7" descr="unnamed.jpg"/>
          <p:cNvPicPr/>
          <p:nvPr/>
        </p:nvPicPr>
        <p:blipFill>
          <a:blip r:embed="rId1"/>
          <a:stretch/>
        </p:blipFill>
        <p:spPr>
          <a:xfrm>
            <a:off x="250920" y="662040"/>
            <a:ext cx="3402000" cy="453708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6" descr="unnamed (1).jpg"/>
          <p:cNvPicPr/>
          <p:nvPr/>
        </p:nvPicPr>
        <p:blipFill>
          <a:blip r:embed="rId2"/>
          <a:stretch/>
        </p:blipFill>
        <p:spPr>
          <a:xfrm>
            <a:off x="4892760" y="2349360"/>
            <a:ext cx="3098880" cy="4133880"/>
          </a:xfrm>
          <a:prstGeom prst="rect">
            <a:avLst/>
          </a:prstGeom>
          <a:ln w="0">
            <a:noFill/>
          </a:ln>
        </p:spPr>
      </p:pic>
      <p:sp>
        <p:nvSpPr>
          <p:cNvPr id="55" name="Fumetto 3 5"/>
          <p:cNvSpPr/>
          <p:nvPr/>
        </p:nvSpPr>
        <p:spPr>
          <a:xfrm>
            <a:off x="6659640" y="1736640"/>
            <a:ext cx="2305080" cy="1224000"/>
          </a:xfrm>
          <a:prstGeom prst="wedgeEllipseCallout">
            <a:avLst>
              <a:gd name="adj1" fmla="val -22027"/>
              <a:gd name="adj2" fmla="val 8793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Wo bist du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umetto 3 4"/>
          <p:cNvSpPr/>
          <p:nvPr/>
        </p:nvSpPr>
        <p:spPr>
          <a:xfrm>
            <a:off x="2701800" y="404640"/>
            <a:ext cx="2951280" cy="1440000"/>
          </a:xfrm>
          <a:prstGeom prst="wedgeEllipseCallout">
            <a:avLst>
              <a:gd name="adj1" fmla="val -41939"/>
              <a:gd name="adj2" fmla="val 631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ch brauche  dich!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4"/>
          <p:cNvSpPr/>
          <p:nvPr/>
        </p:nvSpPr>
        <p:spPr>
          <a:xfrm>
            <a:off x="-60480" y="2133720"/>
            <a:ext cx="79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Echte Freunde helfen dir wieder aufzustehen, wenn die anderen noch nicht mal gemerkt haben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dass du gefallen bis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5"/>
          <p:cNvSpPr/>
          <p:nvPr/>
        </p:nvSpPr>
        <p:spPr>
          <a:xfrm>
            <a:off x="2195640" y="5394240"/>
            <a:ext cx="67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Ein echter Freund weiß immer, wann wir ihn brauc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asellaDiTesto 3"/>
          <p:cNvSpPr/>
          <p:nvPr/>
        </p:nvSpPr>
        <p:spPr>
          <a:xfrm>
            <a:off x="0" y="46080"/>
            <a:ext cx="68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Die Freunde arbeiten zusammen…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tangolo 4"/>
          <p:cNvSpPr/>
          <p:nvPr/>
        </p:nvSpPr>
        <p:spPr>
          <a:xfrm>
            <a:off x="3794400" y="5411880"/>
            <a:ext cx="522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um 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oper Black"/>
              </a:rPr>
              <a:t>gemeinsames Ziel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09:05:20Z</dcterms:created>
  <dc:creator>romag_000</dc:creator>
  <dc:description/>
  <dc:language>en-US</dc:language>
  <cp:lastModifiedBy>user</cp:lastModifiedBy>
  <dcterms:modified xsi:type="dcterms:W3CDTF">2015-11-06T18:33:37Z</dcterms:modified>
  <cp:revision>65</cp:revision>
  <dc:subject/>
  <dc:title>Diapositiva 1</dc:title>
</cp:coreProperties>
</file>